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293D-F8B5-40EC-95E5-76C4221FE58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ranzisztorról kép, működési magyaráz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erritgyűrűs memória képe és működése [Computer Architecture and Organisation, Chapter Five, Memory organisation, pp33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C mutatás, magyaráz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Pentiumban hány tranzisztor van ? (kb. 5e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... a jövő nemzedék, Önök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951 : 12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975 : 150.000 jóslat 1985-re : 50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985 : 9.00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989 : 54.00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egiszter : „egy-egy adat befogadására, megadott hosszúságú, gyors működésű tárolóhe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CPU megvalósítá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ezérlő egység megvalósítása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űvelet végző egység megvalósítása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egiszterek megvalósítása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uszok megvalósítása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[Számítástechnkia alapismeretek pp5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[Számítástechnkia alapismeretek pp5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[Számítástechnkia alapismeretek pp5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[Számítástechnkia alapismeretek pp5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[Számítástechnkia alapismeretek pp5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[Számítástechnkia alapismeretek pp5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ákumcső kép, magyaráz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74F4-CF84-42C7-91A6-FA5A5BC4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24F-B027-4780-93CF-30933A48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02A-BAC3-43B3-BBAA-82C27BAA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769-677D-44E5-9FB3-F4551D0C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D00-5712-42B9-A216-F947C663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394-817E-412A-93D2-1C740F43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630-8120-4AF5-B89B-2876C9E2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E79-F8D8-423D-88C6-4EAF92B1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79C1-6434-444A-8A95-57CECD82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31B-FF6B-4B97-80C4-663546CE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540-4175-416B-8F90-ADD5D16A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F26-63F7-49C3-B6A7-11F595AE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ED21-DA93-434A-A2D8-40B1EC1DF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ámítástechnikai alapismer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Generáció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45-1956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V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umann Ján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ohn von Neumann 1903-1957) 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mó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árolja az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d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at és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tételes vezérlés átadá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özponti vezérlő eg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VAC I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ő kereskedelemben kapható számítógé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4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M 36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ő „igazi” általános célú számítógé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624-6563-4CBA-B697-86CA3F6239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Generáció blokkvázl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69520" y="3389760"/>
            <a:ext cx="1846080" cy="13723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tmeti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6680" y="5775480"/>
            <a:ext cx="2065680" cy="945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ív t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emó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29640" y="2139840"/>
            <a:ext cx="2640240" cy="519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zérlő eg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520" y="3756240"/>
            <a:ext cx="2580840" cy="945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viteli eg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74680" y="3716640"/>
            <a:ext cx="2462040" cy="945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viteli eg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ut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02960" y="1538280"/>
            <a:ext cx="196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z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68360" y="2300400"/>
            <a:ext cx="134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érl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2360" y="3962520"/>
            <a:ext cx="685800" cy="304560"/>
          </a:xfrm>
          <a:prstGeom prst="rightArrow">
            <a:avLst>
              <a:gd name="adj1" fmla="val 50000"/>
              <a:gd name="adj2" fmla="val 112599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69080" y="3962520"/>
            <a:ext cx="685800" cy="304560"/>
          </a:xfrm>
          <a:prstGeom prst="rightArrow">
            <a:avLst>
              <a:gd name="adj1" fmla="val 50000"/>
              <a:gd name="adj2" fmla="val 112599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2560" y="2666880"/>
            <a:ext cx="304920" cy="685800"/>
          </a:xfrm>
          <a:prstGeom prst="upArrow">
            <a:avLst>
              <a:gd name="adj1" fmla="val 50000"/>
              <a:gd name="adj2" fmla="val 11244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268880" y="4800600"/>
            <a:ext cx="304560" cy="990720"/>
            <a:chOff x="4268880" y="4800600"/>
            <a:chExt cx="304560" cy="990720"/>
          </a:xfrm>
        </p:grpSpPr>
        <p:sp>
          <p:nvSpPr>
            <p:cNvPr id="151" name=""/>
            <p:cNvSpPr/>
            <p:nvPr/>
          </p:nvSpPr>
          <p:spPr>
            <a:xfrm>
              <a:off x="4268880" y="5105520"/>
              <a:ext cx="304560" cy="685800"/>
            </a:xfrm>
            <a:prstGeom prst="downArrow">
              <a:avLst>
                <a:gd name="adj1" fmla="val 50000"/>
                <a:gd name="adj2" fmla="val 11259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8880" y="4800600"/>
              <a:ext cx="304560" cy="685800"/>
            </a:xfrm>
            <a:prstGeom prst="upArrow">
              <a:avLst>
                <a:gd name="adj1" fmla="val 50000"/>
                <a:gd name="adj2" fmla="val 112578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335560" y="2666880"/>
            <a:ext cx="304920" cy="685800"/>
          </a:xfrm>
          <a:prstGeom prst="upArrow">
            <a:avLst>
              <a:gd name="adj1" fmla="val 50000"/>
              <a:gd name="adj2" fmla="val 11244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1880" y="3352680"/>
            <a:ext cx="152280" cy="2438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06960" y="4038480"/>
            <a:ext cx="762120" cy="152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33560" y="1536840"/>
            <a:ext cx="3251160" cy="37083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296720" y="2362320"/>
            <a:ext cx="2057400" cy="1371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11680" y="266688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21360" y="2438280"/>
            <a:ext cx="1447920" cy="1295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2760" y="2666880"/>
            <a:ext cx="0" cy="3124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38440" y="5653080"/>
            <a:ext cx="1753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tátvi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505320" y="53341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552720" y="259092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200" y="5761080"/>
            <a:ext cx="1650960" cy="519120"/>
          </a:xfrm>
          <a:prstGeom prst="rect">
            <a:avLst/>
          </a:prstGeom>
          <a:solidFill>
            <a:srgbClr val="bbe0e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féri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20720" y="5684760"/>
            <a:ext cx="1650960" cy="519120"/>
          </a:xfrm>
          <a:prstGeom prst="rect">
            <a:avLst/>
          </a:prstGeom>
          <a:solidFill>
            <a:srgbClr val="bbe0e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féri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82680" y="4724280"/>
            <a:ext cx="304560" cy="990720"/>
            <a:chOff x="382680" y="4724280"/>
            <a:chExt cx="304560" cy="990720"/>
          </a:xfrm>
        </p:grpSpPr>
        <p:sp>
          <p:nvSpPr>
            <p:cNvPr id="167" name=""/>
            <p:cNvSpPr/>
            <p:nvPr/>
          </p:nvSpPr>
          <p:spPr>
            <a:xfrm>
              <a:off x="382680" y="5029200"/>
              <a:ext cx="304560" cy="685800"/>
            </a:xfrm>
            <a:prstGeom prst="downArrow">
              <a:avLst>
                <a:gd name="adj1" fmla="val 50000"/>
                <a:gd name="adj2" fmla="val 11259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2680" y="4724280"/>
              <a:ext cx="304560" cy="685800"/>
            </a:xfrm>
            <a:prstGeom prst="upArrow">
              <a:avLst>
                <a:gd name="adj1" fmla="val 50000"/>
                <a:gd name="adj2" fmla="val 112578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164360" y="4648320"/>
            <a:ext cx="304920" cy="990360"/>
            <a:chOff x="7164360" y="4648320"/>
            <a:chExt cx="304920" cy="990360"/>
          </a:xfrm>
        </p:grpSpPr>
        <p:sp>
          <p:nvSpPr>
            <p:cNvPr id="170" name=""/>
            <p:cNvSpPr/>
            <p:nvPr/>
          </p:nvSpPr>
          <p:spPr>
            <a:xfrm>
              <a:off x="7164360" y="4952880"/>
              <a:ext cx="304920" cy="685800"/>
            </a:xfrm>
            <a:prstGeom prst="downArrow">
              <a:avLst>
                <a:gd name="adj1" fmla="val 50000"/>
                <a:gd name="adj2" fmla="val 112466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64360" y="4648320"/>
              <a:ext cx="304920" cy="685800"/>
            </a:xfrm>
            <a:prstGeom prst="upArrow">
              <a:avLst>
                <a:gd name="adj1" fmla="val 50000"/>
                <a:gd name="adj2" fmla="val 112445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297080" y="4724280"/>
            <a:ext cx="304560" cy="990720"/>
            <a:chOff x="1297080" y="4724280"/>
            <a:chExt cx="304560" cy="990720"/>
          </a:xfrm>
        </p:grpSpPr>
        <p:sp>
          <p:nvSpPr>
            <p:cNvPr id="173" name=""/>
            <p:cNvSpPr/>
            <p:nvPr/>
          </p:nvSpPr>
          <p:spPr>
            <a:xfrm>
              <a:off x="1297080" y="5029200"/>
              <a:ext cx="304560" cy="685800"/>
            </a:xfrm>
            <a:prstGeom prst="downArrow">
              <a:avLst>
                <a:gd name="adj1" fmla="val 50000"/>
                <a:gd name="adj2" fmla="val 11259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97080" y="4724280"/>
              <a:ext cx="304560" cy="685800"/>
            </a:xfrm>
            <a:prstGeom prst="upArrow">
              <a:avLst>
                <a:gd name="adj1" fmla="val 50000"/>
                <a:gd name="adj2" fmla="val 112578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231040" y="4648320"/>
            <a:ext cx="304920" cy="990360"/>
            <a:chOff x="8231040" y="4648320"/>
            <a:chExt cx="304920" cy="990360"/>
          </a:xfrm>
        </p:grpSpPr>
        <p:sp>
          <p:nvSpPr>
            <p:cNvPr id="176" name=""/>
            <p:cNvSpPr/>
            <p:nvPr/>
          </p:nvSpPr>
          <p:spPr>
            <a:xfrm>
              <a:off x="8231040" y="4952880"/>
              <a:ext cx="304920" cy="685800"/>
            </a:xfrm>
            <a:prstGeom prst="downArrow">
              <a:avLst>
                <a:gd name="adj1" fmla="val 50000"/>
                <a:gd name="adj2" fmla="val 112466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31040" y="4648320"/>
              <a:ext cx="304920" cy="685800"/>
            </a:xfrm>
            <a:prstGeom prst="upArrow">
              <a:avLst>
                <a:gd name="adj1" fmla="val 50000"/>
                <a:gd name="adj2" fmla="val 112445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133-D74F-4EC7-BA71-D43AAD106C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Generáció összefogla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endelésre készült műveletek, az elvégzendő feladathoz 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udományos műszaki számít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inárisan kódolt gépi nyelvű program (minden gépnek különböző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ogramozás gépi kód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9999"/>
                </a:solidFill>
                <a:latin typeface="Arial"/>
              </a:rPr>
              <a:t>Processzorcentri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oros feldolg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64D8-E018-4FE9-AB8F-DDCA5BC882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Generáció összefogla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9999"/>
                </a:solidFill>
                <a:latin typeface="Arial"/>
              </a:rPr>
              <a:t>Vákuumcsöve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(nagy méret)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dat tárolók : mágnesdob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ektroncsö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0e3..10e4 művelet/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0..100kW teljesítményfelvé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s megbízható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gas á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éhány dar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064-43CE-4D84-91EC-38870D4FA6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Generáció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56-19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8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ranzisz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lfede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élvezetős áramkörök (tranzisztor, dió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e4..10e5 művelet/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bízhatóbb, kisebb méret, teljesítmény felvétel csö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jesítmény/ár arány megn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ED6-B98C-46A2-BEB6-43D1883422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Gener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nálló (a központi feldolgozó egységtől függetlenül) párhuzamosan működő csatornák (I/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mória centri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fériák, háttértá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ritgyűrűs memória (megbízhatóbb, olcsóbb, gyorsabb, nagyobb kapacit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8B6-C6EB-42DF-A39B-BDBB13B872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Gener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7800" y="1386000"/>
            <a:ext cx="192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z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8760" y="4464000"/>
            <a:ext cx="1968480" cy="519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ato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01960" y="1644480"/>
            <a:ext cx="2959200" cy="519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zérlő eg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64400" y="2863800"/>
            <a:ext cx="4203720" cy="519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tmetikai logikai eg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4240" y="4251600"/>
            <a:ext cx="3035520" cy="945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ív t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emó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44560" y="5873760"/>
            <a:ext cx="2197080" cy="596880"/>
          </a:xfrm>
          <a:prstGeom prst="rect">
            <a:avLst/>
          </a:prstGeom>
          <a:solidFill>
            <a:srgbClr val="bbe0e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féri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01640" y="5029200"/>
            <a:ext cx="303480" cy="838080"/>
            <a:chOff x="1601640" y="5029200"/>
            <a:chExt cx="303480" cy="838080"/>
          </a:xfrm>
        </p:grpSpPr>
        <p:sp>
          <p:nvSpPr>
            <p:cNvPr id="194" name=""/>
            <p:cNvSpPr/>
            <p:nvPr/>
          </p:nvSpPr>
          <p:spPr>
            <a:xfrm>
              <a:off x="1601640" y="5286240"/>
              <a:ext cx="303480" cy="581040"/>
            </a:xfrm>
            <a:prstGeom prst="downArrow">
              <a:avLst>
                <a:gd name="adj1" fmla="val 50000"/>
                <a:gd name="adj2" fmla="val 95738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1640" y="5029200"/>
              <a:ext cx="303480" cy="581040"/>
            </a:xfrm>
            <a:prstGeom prst="upArrow">
              <a:avLst>
                <a:gd name="adj1" fmla="val 50000"/>
                <a:gd name="adj2" fmla="val 95721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268880" y="2133720"/>
            <a:ext cx="304560" cy="685800"/>
          </a:xfrm>
          <a:prstGeom prst="upArrow">
            <a:avLst>
              <a:gd name="adj1" fmla="val 50000"/>
              <a:gd name="adj2" fmla="val 112578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30760" y="5873760"/>
            <a:ext cx="3263760" cy="596880"/>
          </a:xfrm>
          <a:prstGeom prst="rect">
            <a:avLst/>
          </a:prstGeom>
          <a:solidFill>
            <a:srgbClr val="bbe0e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ttértár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5320" y="4464000"/>
            <a:ext cx="1968480" cy="519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ato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992160" y="5029200"/>
            <a:ext cx="303120" cy="838080"/>
            <a:chOff x="992160" y="5029200"/>
            <a:chExt cx="303120" cy="838080"/>
          </a:xfrm>
        </p:grpSpPr>
        <p:sp>
          <p:nvSpPr>
            <p:cNvPr id="200" name=""/>
            <p:cNvSpPr/>
            <p:nvPr/>
          </p:nvSpPr>
          <p:spPr>
            <a:xfrm>
              <a:off x="992160" y="5286240"/>
              <a:ext cx="303120" cy="581040"/>
            </a:xfrm>
            <a:prstGeom prst="downArrow">
              <a:avLst>
                <a:gd name="adj1" fmla="val 50000"/>
                <a:gd name="adj2" fmla="val 95852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92160" y="5029200"/>
              <a:ext cx="303120" cy="581040"/>
            </a:xfrm>
            <a:prstGeom prst="upArrow">
              <a:avLst>
                <a:gd name="adj1" fmla="val 50000"/>
                <a:gd name="adj2" fmla="val 95834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268880" y="3429000"/>
            <a:ext cx="303120" cy="838080"/>
            <a:chOff x="4268880" y="3429000"/>
            <a:chExt cx="303120" cy="838080"/>
          </a:xfrm>
        </p:grpSpPr>
        <p:sp>
          <p:nvSpPr>
            <p:cNvPr id="203" name=""/>
            <p:cNvSpPr/>
            <p:nvPr/>
          </p:nvSpPr>
          <p:spPr>
            <a:xfrm>
              <a:off x="4268880" y="3686040"/>
              <a:ext cx="303120" cy="581040"/>
            </a:xfrm>
            <a:prstGeom prst="downArrow">
              <a:avLst>
                <a:gd name="adj1" fmla="val 50000"/>
                <a:gd name="adj2" fmla="val 95852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8880" y="3429000"/>
              <a:ext cx="303120" cy="581040"/>
            </a:xfrm>
            <a:prstGeom prst="upArrow">
              <a:avLst>
                <a:gd name="adj1" fmla="val 50000"/>
                <a:gd name="adj2" fmla="val 95834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171880" y="4457880"/>
            <a:ext cx="838080" cy="303120"/>
            <a:chOff x="2171880" y="4457880"/>
            <a:chExt cx="838080" cy="303120"/>
          </a:xfrm>
        </p:grpSpPr>
        <p:sp>
          <p:nvSpPr>
            <p:cNvPr id="206" name=""/>
            <p:cNvSpPr/>
            <p:nvPr/>
          </p:nvSpPr>
          <p:spPr>
            <a:xfrm>
              <a:off x="2428920" y="4457880"/>
              <a:ext cx="581040" cy="303120"/>
            </a:xfrm>
            <a:prstGeom prst="rightArrow">
              <a:avLst>
                <a:gd name="adj1" fmla="val 50000"/>
                <a:gd name="adj2" fmla="val 95852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71880" y="4457880"/>
              <a:ext cx="580680" cy="303120"/>
            </a:xfrm>
            <a:prstGeom prst="leftArrow">
              <a:avLst>
                <a:gd name="adj1" fmla="val 50000"/>
                <a:gd name="adj2" fmla="val 95775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134040" y="4381560"/>
            <a:ext cx="838440" cy="303120"/>
            <a:chOff x="6134040" y="4381560"/>
            <a:chExt cx="838440" cy="303120"/>
          </a:xfrm>
        </p:grpSpPr>
        <p:sp>
          <p:nvSpPr>
            <p:cNvPr id="209" name=""/>
            <p:cNvSpPr/>
            <p:nvPr/>
          </p:nvSpPr>
          <p:spPr>
            <a:xfrm>
              <a:off x="6391440" y="4381560"/>
              <a:ext cx="581040" cy="303120"/>
            </a:xfrm>
            <a:prstGeom prst="rightArrow">
              <a:avLst>
                <a:gd name="adj1" fmla="val 50000"/>
                <a:gd name="adj2" fmla="val 95852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34040" y="4381560"/>
              <a:ext cx="581040" cy="303120"/>
            </a:xfrm>
            <a:prstGeom prst="leftArrow">
              <a:avLst>
                <a:gd name="adj1" fmla="val 50000"/>
                <a:gd name="adj2" fmla="val 95834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7697880" y="5029200"/>
            <a:ext cx="303120" cy="838080"/>
            <a:chOff x="7697880" y="5029200"/>
            <a:chExt cx="303120" cy="838080"/>
          </a:xfrm>
        </p:grpSpPr>
        <p:sp>
          <p:nvSpPr>
            <p:cNvPr id="212" name=""/>
            <p:cNvSpPr/>
            <p:nvPr/>
          </p:nvSpPr>
          <p:spPr>
            <a:xfrm>
              <a:off x="7697880" y="5286240"/>
              <a:ext cx="303120" cy="581040"/>
            </a:xfrm>
            <a:prstGeom prst="downArrow">
              <a:avLst>
                <a:gd name="adj1" fmla="val 50000"/>
                <a:gd name="adj2" fmla="val 95852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7880" y="5029200"/>
              <a:ext cx="303120" cy="581040"/>
            </a:xfrm>
            <a:prstGeom prst="upArrow">
              <a:avLst>
                <a:gd name="adj1" fmla="val 50000"/>
                <a:gd name="adj2" fmla="val 95834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7088040" y="5029200"/>
            <a:ext cx="303480" cy="838080"/>
            <a:chOff x="7088040" y="5029200"/>
            <a:chExt cx="303480" cy="838080"/>
          </a:xfrm>
        </p:grpSpPr>
        <p:sp>
          <p:nvSpPr>
            <p:cNvPr id="215" name=""/>
            <p:cNvSpPr/>
            <p:nvPr/>
          </p:nvSpPr>
          <p:spPr>
            <a:xfrm>
              <a:off x="7088040" y="5286240"/>
              <a:ext cx="303480" cy="581040"/>
            </a:xfrm>
            <a:prstGeom prst="downArrow">
              <a:avLst>
                <a:gd name="adj1" fmla="val 50000"/>
                <a:gd name="adj2" fmla="val 95738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88040" y="5029200"/>
              <a:ext cx="303480" cy="581040"/>
            </a:xfrm>
            <a:prstGeom prst="upArrow">
              <a:avLst>
                <a:gd name="adj1" fmla="val 50000"/>
                <a:gd name="adj2" fmla="val 95721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133720" y="487692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095880" y="487692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2096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2209680"/>
            <a:ext cx="0" cy="198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1905120"/>
            <a:ext cx="2133720" cy="2514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8640" y="1906560"/>
            <a:ext cx="487692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76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762"/>
              </a:path>
            </a:pathLst>
          </a:custGeom>
          <a:noFill/>
          <a:ln cap="rnd"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2440" y="1460520"/>
            <a:ext cx="5537160" cy="23367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46200" y="2330280"/>
            <a:ext cx="134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érl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629400" y="2666880"/>
            <a:ext cx="3808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25760" y="5302080"/>
            <a:ext cx="166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tátvi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5486400"/>
            <a:ext cx="76212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9DC-6833-4E63-91DF-6F0E438411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Generáció összefogla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épcsalád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ssembly nyelv (rövidített kódok), COBOL, FORTRAN, ALGOL, software ipa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tegelt (batch) feldolgozás, gazdasági adatfeldolgozás, ipari folyamatirányí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597-0E6A-4557-A82A-EA3CDC5661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Generáció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4-19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958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Jack Kilby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(Texas Instruments)</a:t>
            </a:r>
            <a:br>
              <a:rPr sz="3200"/>
            </a:br>
            <a:r>
              <a:rPr b="0" lang="hu-HU" sz="3200" spc="-1" strike="noStrike">
                <a:solidFill>
                  <a:srgbClr val="009999"/>
                </a:solidFill>
                <a:latin typeface="Arial"/>
              </a:rPr>
              <a:t>Integrált áramkör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(IC)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 elektronikus elem 1 szilícium lapk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1C2-3F76-4318-BB86-D645F294CF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Gener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tegrált áramkörök (10..1000 egy tokb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0e5..10e6 művelet /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9999"/>
                </a:solidFill>
                <a:latin typeface="Arial"/>
              </a:rPr>
              <a:t>Modularitá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bővíthető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árhuzamos működés, több processz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/O processzo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lcsó nagy tá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2620-632F-4AB2-A0C7-B449D6C867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odul szerkez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umann-típusú számítógép működésének alapelvei, a digitális számítógépek csoportosítá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ver ismere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zoftver fogal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operációs rends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NDOWS grafikus felhasználói felület kezelői szintű megismeré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Gener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50840" y="2529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36840" y="3824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2920" y="51195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02240" y="4890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1720" y="2520720"/>
            <a:ext cx="1786680" cy="519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r mod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2280" y="3892680"/>
            <a:ext cx="8064360" cy="4442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tviteli sínrendszer (bus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2040" y="5166000"/>
            <a:ext cx="3054600" cy="945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tmetikai, logi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z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0640" y="5203800"/>
            <a:ext cx="1928520" cy="945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z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49760" y="2520720"/>
            <a:ext cx="1786680" cy="519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r mod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07560" y="2520720"/>
            <a:ext cx="1786680" cy="519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r mod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88920" y="5203800"/>
            <a:ext cx="1928520" cy="945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z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601640" y="4343400"/>
            <a:ext cx="303480" cy="838080"/>
            <a:chOff x="1601640" y="4343400"/>
            <a:chExt cx="303480" cy="838080"/>
          </a:xfrm>
        </p:grpSpPr>
        <p:sp>
          <p:nvSpPr>
            <p:cNvPr id="247" name=""/>
            <p:cNvSpPr/>
            <p:nvPr/>
          </p:nvSpPr>
          <p:spPr>
            <a:xfrm>
              <a:off x="1601640" y="4600440"/>
              <a:ext cx="303480" cy="581040"/>
            </a:xfrm>
            <a:prstGeom prst="downArrow">
              <a:avLst>
                <a:gd name="adj1" fmla="val 50000"/>
                <a:gd name="adj2" fmla="val 95738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01640" y="4343400"/>
              <a:ext cx="303480" cy="581040"/>
            </a:xfrm>
            <a:prstGeom prst="upArrow">
              <a:avLst>
                <a:gd name="adj1" fmla="val 50000"/>
                <a:gd name="adj2" fmla="val 95721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525760" y="4540320"/>
            <a:ext cx="166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tátvi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28800" y="4724280"/>
            <a:ext cx="76212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164360" y="4343400"/>
            <a:ext cx="303120" cy="838080"/>
            <a:chOff x="7164360" y="4343400"/>
            <a:chExt cx="303120" cy="838080"/>
          </a:xfrm>
        </p:grpSpPr>
        <p:sp>
          <p:nvSpPr>
            <p:cNvPr id="252" name=""/>
            <p:cNvSpPr/>
            <p:nvPr/>
          </p:nvSpPr>
          <p:spPr>
            <a:xfrm>
              <a:off x="7164360" y="4600440"/>
              <a:ext cx="303120" cy="581040"/>
            </a:xfrm>
            <a:prstGeom prst="downArrow">
              <a:avLst>
                <a:gd name="adj1" fmla="val 50000"/>
                <a:gd name="adj2" fmla="val 95852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64360" y="4343400"/>
              <a:ext cx="303120" cy="581040"/>
            </a:xfrm>
            <a:prstGeom prst="upArrow">
              <a:avLst>
                <a:gd name="adj1" fmla="val 50000"/>
                <a:gd name="adj2" fmla="val 95834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726080" y="4343400"/>
            <a:ext cx="303120" cy="838080"/>
            <a:chOff x="4726080" y="4343400"/>
            <a:chExt cx="303120" cy="838080"/>
          </a:xfrm>
        </p:grpSpPr>
        <p:sp>
          <p:nvSpPr>
            <p:cNvPr id="255" name=""/>
            <p:cNvSpPr/>
            <p:nvPr/>
          </p:nvSpPr>
          <p:spPr>
            <a:xfrm>
              <a:off x="4726080" y="4600440"/>
              <a:ext cx="303120" cy="581040"/>
            </a:xfrm>
            <a:prstGeom prst="downArrow">
              <a:avLst>
                <a:gd name="adj1" fmla="val 50000"/>
                <a:gd name="adj2" fmla="val 95852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26080" y="4343400"/>
              <a:ext cx="303120" cy="581040"/>
            </a:xfrm>
            <a:prstGeom prst="upArrow">
              <a:avLst>
                <a:gd name="adj1" fmla="val 50000"/>
                <a:gd name="adj2" fmla="val 95834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012080" y="3048120"/>
            <a:ext cx="303120" cy="838080"/>
            <a:chOff x="7012080" y="3048120"/>
            <a:chExt cx="303120" cy="838080"/>
          </a:xfrm>
        </p:grpSpPr>
        <p:sp>
          <p:nvSpPr>
            <p:cNvPr id="258" name=""/>
            <p:cNvSpPr/>
            <p:nvPr/>
          </p:nvSpPr>
          <p:spPr>
            <a:xfrm>
              <a:off x="7012080" y="3305160"/>
              <a:ext cx="303120" cy="581040"/>
            </a:xfrm>
            <a:prstGeom prst="downArrow">
              <a:avLst>
                <a:gd name="adj1" fmla="val 50000"/>
                <a:gd name="adj2" fmla="val 95852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12080" y="3048120"/>
              <a:ext cx="303120" cy="581040"/>
            </a:xfrm>
            <a:prstGeom prst="upArrow">
              <a:avLst>
                <a:gd name="adj1" fmla="val 50000"/>
                <a:gd name="adj2" fmla="val 95834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192560" y="3048120"/>
            <a:ext cx="303120" cy="838080"/>
            <a:chOff x="4192560" y="3048120"/>
            <a:chExt cx="303120" cy="838080"/>
          </a:xfrm>
        </p:grpSpPr>
        <p:sp>
          <p:nvSpPr>
            <p:cNvPr id="261" name=""/>
            <p:cNvSpPr/>
            <p:nvPr/>
          </p:nvSpPr>
          <p:spPr>
            <a:xfrm>
              <a:off x="4192560" y="3305160"/>
              <a:ext cx="303120" cy="581040"/>
            </a:xfrm>
            <a:prstGeom prst="downArrow">
              <a:avLst>
                <a:gd name="adj1" fmla="val 50000"/>
                <a:gd name="adj2" fmla="val 95852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92560" y="3048120"/>
              <a:ext cx="303120" cy="581040"/>
            </a:xfrm>
            <a:prstGeom prst="upArrow">
              <a:avLst>
                <a:gd name="adj1" fmla="val 50000"/>
                <a:gd name="adj2" fmla="val 95834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830240" y="3048120"/>
            <a:ext cx="303480" cy="838080"/>
            <a:chOff x="1830240" y="3048120"/>
            <a:chExt cx="303480" cy="838080"/>
          </a:xfrm>
        </p:grpSpPr>
        <p:sp>
          <p:nvSpPr>
            <p:cNvPr id="264" name=""/>
            <p:cNvSpPr/>
            <p:nvPr/>
          </p:nvSpPr>
          <p:spPr>
            <a:xfrm>
              <a:off x="1830240" y="3305160"/>
              <a:ext cx="303480" cy="581040"/>
            </a:xfrm>
            <a:prstGeom prst="downArrow">
              <a:avLst>
                <a:gd name="adj1" fmla="val 50000"/>
                <a:gd name="adj2" fmla="val 95738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30240" y="3048120"/>
              <a:ext cx="303480" cy="581040"/>
            </a:xfrm>
            <a:prstGeom prst="upArrow">
              <a:avLst>
                <a:gd name="adj1" fmla="val 50000"/>
                <a:gd name="adj2" fmla="val 95721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135-7998-4BF1-80B2-00AE53CE14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Gener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perációs rendszerek, szoftve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ultiprogramozott üzemmó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dőosztásos rendszerek (Time sharing), távoli terminál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BM 360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370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DP 11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másola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AB60-7D64-4787-8CBA-2F8DBA75B7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Generáció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1-napjainkig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re több elem egy tokban (chipben) LSI, VLSI, ULSI (1e6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ökkenő méret, csökkenő 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övekvő teljesítmény, megbízható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971 Intel 4004 : központi feldolgozó egység, memória, I/O vezérlés 1 chip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</a:t>
            </a:r>
            <a:r>
              <a:rPr b="0" lang="hu-HU" sz="2800" spc="-1" strike="noStrike">
                <a:solidFill>
                  <a:srgbClr val="009999"/>
                </a:solidFill>
                <a:latin typeface="Arial"/>
              </a:rPr>
              <a:t>mikroprocesszo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- több feladatra programoz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9999"/>
                </a:solidFill>
                <a:latin typeface="Arial"/>
              </a:rPr>
              <a:t>Mikroszámítógép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8B4A-47D9-43B9-81D3-B6ABAE5B31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Generáció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1-napjainkig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97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ra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198 MF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i-számítógépek (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ommodore, Apple, Atari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981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„személyi számítógé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981: 2Millió, 1982: 5.5Millió, 1990: 65mill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sktop, laptop, palm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984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acintosh Appl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grafikus operációs ren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9999"/>
                </a:solidFill>
                <a:latin typeface="Arial"/>
              </a:rPr>
              <a:t>Hálózato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LAN,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9A6-A9E2-4A55-BD73-5CA43BC068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Generáció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len és Jöv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L9000 (2001 Űrodüsszea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sterséges intelligenci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árhuzamos (nem Neumann elvű) feldolg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oblémák ? (Hő, vékony réteg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Új technológia, új elve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000" spc="-1" strike="noStrike">
                <a:solidFill>
                  <a:srgbClr val="009999"/>
                </a:solidFill>
                <a:latin typeface="Arial"/>
              </a:rPr>
              <a:t>Kvantum számítástechnik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90E-459C-47D6-94B4-45A7971A91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j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0480" y="12193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chnológia : eletroncső, tranzisztor,  integrált áramkör, LSI, VL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peratív tár : művonal, ferritgyűrű, félvezet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ruktúra : processzorcentrikus, tárcentrikus, modulá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éret csökken („teremnyi” -&gt; „körömnyi”), darabszám nő (1-2db. -&gt; 10e6 db/típu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kalmazás : tudományos-műszaki számítások, gazdasági adatfeldolgozás, ipari folyamatirányítás, általá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ozás : gépi, assembler nyelv, magas szintű nyelvek, operációs ren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rarány : hardver / szoftver csö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58B-F01B-4D01-B112-B78C375707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ver ismer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ardver legfontosabb rendszertechnikai elemei, feladatu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C helye a számítógép-kategóriák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PU (központi egység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egfontosabb periféria-típus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erifériák feladata (az ember-gép kapcsolat eszköze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nitor, billentyűzet, egér, nyomtatók, típusai, legfontosabb jellemzői a felhasználók számá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áttértárolók típusai (floppy, winchester), tulajdonságai, összehasonlításuk. Az adattárolás a lemezen (sávok, szektoro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ikus konfigurációk Alapkonfiguráció - konfiguráció – bővített konfigu­ráció fogal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ardver legfontosabb rendszertechnikai elemei, feladat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özponti eg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p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ív tá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ttért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féri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iteli 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viteli 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gép lelke, a vezérlés a fel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mória , itt futnak a program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ok tárolására szolg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mber és a gép közti kapcsolattarás eszközei. Billentyűzet, egér, monitor, nyomt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PU-t, alaplapot, memóriát, háttértárat különíti el a külvilágtó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központi feldolgozó egysé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adata, kapcsolata a többi egység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ei, felépí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űköd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valós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8CB-FD47-45C4-AA21-61115C9128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központi feldolgozó egység rész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özponti feldolgozó egység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Central Processing Unit - CPU) része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űveleti egység (aritmetikai logikai egység)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Arithmetic Logical Unit - AL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ezérlő egység (Control Unit - C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egiszterek (regis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ínek (b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496-CAC6-4082-9A3D-30A8361E3AC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umann-típusú számítógép működésének alapelvei, a digitális számítógépek csoportos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PU működ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cesszor utasításcikl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0968-963F-4D74-AAE8-79B064F113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asítás cik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tch („elérés”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tasítás kód beolvas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tasítás kód értelmezése (dekódol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perandusok beolvas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xecute („végrehajtás”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űveletvégzés (AL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redmény tárol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vetkező utasítás címének kiszám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E189-D870-41AD-BBF1-034BAFD500F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asítás végrehajtá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kcionális váz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-151920" y="1461960"/>
            <a:ext cx="144684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ámlá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6200000">
            <a:off x="2634120" y="2464560"/>
            <a:ext cx="14086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5623920" y="2527200"/>
            <a:ext cx="1387440" cy="519120"/>
          </a:xfrm>
          <a:prstGeom prst="rect">
            <a:avLst/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ütemez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73880" y="2298600"/>
            <a:ext cx="1230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érl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1107360" y="4278960"/>
            <a:ext cx="174420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30720" y="5815080"/>
            <a:ext cx="16372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 puff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240240" y="5799240"/>
            <a:ext cx="14086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 cím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 rot="16200000">
            <a:off x="3987360" y="2196360"/>
            <a:ext cx="1816200" cy="939960"/>
          </a:xfrm>
          <a:custGeom>
            <a:avLst/>
            <a:gdLst>
              <a:gd name="textAreaLeft" fmla="*/ 271080 w 1816200"/>
              <a:gd name="textAreaRight" fmla="*/ 1545120 w 1816200"/>
              <a:gd name="textAreaTop" fmla="*/ 140040 h 939960"/>
              <a:gd name="textAreaBottom" fmla="*/ 7999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45" y="21600"/>
                </a:lnTo>
                <a:lnTo>
                  <a:pt x="2655" y="21600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ekodo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 rot="10800000">
            <a:off x="2597040" y="4654440"/>
            <a:ext cx="4254480" cy="596880"/>
          </a:xfrm>
          <a:custGeom>
            <a:avLst/>
            <a:gdLst>
              <a:gd name="textAreaLeft" fmla="*/ 505080 w 4254480"/>
              <a:gd name="textAreaRight" fmla="*/ 3749400 w 4254480"/>
              <a:gd name="textAreaTop" fmla="*/ 70920 h 596880"/>
              <a:gd name="textAreaBottom" fmla="*/ 52596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33" y="21600"/>
                </a:lnTo>
                <a:lnTo>
                  <a:pt x="1467" y="21600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metikai logikai eg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6026040" y="3740040"/>
            <a:ext cx="5702400" cy="368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íms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-1708200" y="4616280"/>
            <a:ext cx="3949920" cy="368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ts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809880" y="27432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1480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29400" y="27432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52578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37920" y="548640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638680" y="6477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29400" y="23623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31240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3505320"/>
            <a:ext cx="2438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209680" y="27432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410080" y="27432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56840" y="2971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209680" y="160020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42670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4120" y="396252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438280" y="3962520"/>
            <a:ext cx="2895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16360" y="6026040"/>
            <a:ext cx="1816200" cy="7495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ív t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200040" y="6477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56840" y="46483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56840" y="6477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619760" y="62485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066680" y="1981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57150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958680" y="2025360"/>
            <a:ext cx="1930320" cy="559080"/>
          </a:xfrm>
          <a:prstGeom prst="hexagon">
            <a:avLst>
              <a:gd name="adj" fmla="val 33807"/>
              <a:gd name="vf" fmla="val 115470"/>
            </a:avLst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ímkép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7709760" y="5242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37339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7FB-25A2-4281-8349-7D59CF4049E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asítás végrehajtás lépései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határozni (címképzés) a tár címregiszterébe tölteni az 1. adat címé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t a tárból az egyik adatregiszter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3C1-E668-45FD-A6E5-7F9B15808D2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asítás végrehajtás lépései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-151920" y="1461960"/>
            <a:ext cx="144684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ámlá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2634120" y="2464560"/>
            <a:ext cx="14086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5623920" y="2527200"/>
            <a:ext cx="1387440" cy="519120"/>
          </a:xfrm>
          <a:prstGeom prst="rect">
            <a:avLst/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ütemez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73880" y="2298600"/>
            <a:ext cx="1230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érl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1107360" y="4278960"/>
            <a:ext cx="1744200" cy="945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30720" y="5815080"/>
            <a:ext cx="1637280" cy="945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 puff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240240" y="5799240"/>
            <a:ext cx="1408680" cy="945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 cím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 rot="16200000">
            <a:off x="3987360" y="2196360"/>
            <a:ext cx="1816200" cy="939960"/>
          </a:xfrm>
          <a:custGeom>
            <a:avLst/>
            <a:gdLst>
              <a:gd name="textAreaLeft" fmla="*/ 271080 w 1816200"/>
              <a:gd name="textAreaRight" fmla="*/ 1545120 w 1816200"/>
              <a:gd name="textAreaTop" fmla="*/ 140040 h 939960"/>
              <a:gd name="textAreaBottom" fmla="*/ 7999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45" y="21600"/>
                </a:lnTo>
                <a:lnTo>
                  <a:pt x="2655" y="21600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ekodo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 rot="10800000">
            <a:off x="2597040" y="4654440"/>
            <a:ext cx="4254480" cy="596880"/>
          </a:xfrm>
          <a:custGeom>
            <a:avLst/>
            <a:gdLst>
              <a:gd name="textAreaLeft" fmla="*/ 505080 w 4254480"/>
              <a:gd name="textAreaRight" fmla="*/ 3749400 w 4254480"/>
              <a:gd name="textAreaTop" fmla="*/ 70920 h 596880"/>
              <a:gd name="textAreaBottom" fmla="*/ 52596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33" y="21600"/>
                </a:lnTo>
                <a:lnTo>
                  <a:pt x="1467" y="21600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metikai logikai eg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6026040" y="3740040"/>
            <a:ext cx="5702400" cy="3682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íms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1708200" y="4616280"/>
            <a:ext cx="3949920" cy="3682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ts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809880" y="27432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1480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29400" y="27432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52578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437920" y="548640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638680" y="6477120"/>
            <a:ext cx="60984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629400" y="23623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29400" y="31240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" y="3505320"/>
            <a:ext cx="2438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209680" y="2743200"/>
            <a:ext cx="60984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410080" y="27432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56840" y="2971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209680" y="1600200"/>
            <a:ext cx="6477120" cy="0"/>
          </a:xfrm>
          <a:prstGeom prst="line">
            <a:avLst/>
          </a:prstGeom>
          <a:ln w="76320">
            <a:solidFill>
              <a:srgbClr val="0099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81280" y="42670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396252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438280" y="3962520"/>
            <a:ext cx="2895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16360" y="6026040"/>
            <a:ext cx="1816200" cy="7495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ív t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200040" y="6477120"/>
            <a:ext cx="60948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56840" y="4648320"/>
            <a:ext cx="1066680" cy="0"/>
          </a:xfrm>
          <a:prstGeom prst="line">
            <a:avLst/>
          </a:prstGeom>
          <a:ln w="76320">
            <a:solidFill>
              <a:srgbClr val="0099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56840" y="6477120"/>
            <a:ext cx="106668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7619760" y="6248520"/>
            <a:ext cx="106668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066680" y="1981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57150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6200000">
            <a:off x="958680" y="2025360"/>
            <a:ext cx="1930320" cy="559080"/>
          </a:xfrm>
          <a:prstGeom prst="hexagon">
            <a:avLst>
              <a:gd name="adj" fmla="val 33807"/>
              <a:gd name="vf" fmla="val 115470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ímkép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7709760" y="5242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37339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3AB-C92D-4790-BE4C-92665FF23FA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asítás végrehajtás lépései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határozni (címképzés) a tár címregiszterébe tölteni az 2. adat címé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t a tárból egy másik adatregiszter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71D-A57C-46DD-A7AD-673521906F3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asítás végrehajtás lépései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-151920" y="1461960"/>
            <a:ext cx="144684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ámlá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2634120" y="2464560"/>
            <a:ext cx="14086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5623920" y="2527200"/>
            <a:ext cx="1387440" cy="519120"/>
          </a:xfrm>
          <a:prstGeom prst="rect">
            <a:avLst/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ütemez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373880" y="2298600"/>
            <a:ext cx="1230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érl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1107360" y="4278960"/>
            <a:ext cx="1744200" cy="945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30720" y="5815080"/>
            <a:ext cx="1637280" cy="945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 puff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240240" y="5799240"/>
            <a:ext cx="1408680" cy="945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 cím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 rot="16200000">
            <a:off x="3987360" y="2196360"/>
            <a:ext cx="1816200" cy="939960"/>
          </a:xfrm>
          <a:custGeom>
            <a:avLst/>
            <a:gdLst>
              <a:gd name="textAreaLeft" fmla="*/ 271080 w 1816200"/>
              <a:gd name="textAreaRight" fmla="*/ 1545120 w 1816200"/>
              <a:gd name="textAreaTop" fmla="*/ 140040 h 939960"/>
              <a:gd name="textAreaBottom" fmla="*/ 7999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45" y="21600"/>
                </a:lnTo>
                <a:lnTo>
                  <a:pt x="2655" y="21600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ekodo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 rot="10800000">
            <a:off x="2597040" y="4654440"/>
            <a:ext cx="4254480" cy="596880"/>
          </a:xfrm>
          <a:custGeom>
            <a:avLst/>
            <a:gdLst>
              <a:gd name="textAreaLeft" fmla="*/ 505080 w 4254480"/>
              <a:gd name="textAreaRight" fmla="*/ 3749400 w 4254480"/>
              <a:gd name="textAreaTop" fmla="*/ 70920 h 596880"/>
              <a:gd name="textAreaBottom" fmla="*/ 52596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33" y="21600"/>
                </a:lnTo>
                <a:lnTo>
                  <a:pt x="1467" y="21600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metikai logikai eg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6026040" y="3740040"/>
            <a:ext cx="5702400" cy="3682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íms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6200000">
            <a:off x="-1708200" y="4616280"/>
            <a:ext cx="3949920" cy="3682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ts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3809880" y="27432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11480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29400" y="27432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0" y="52578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437920" y="548640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638680" y="6477120"/>
            <a:ext cx="60984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23623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31240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3505320"/>
            <a:ext cx="2438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209680" y="2743200"/>
            <a:ext cx="60984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410080" y="27432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56840" y="2971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209680" y="1600200"/>
            <a:ext cx="6477120" cy="0"/>
          </a:xfrm>
          <a:prstGeom prst="line">
            <a:avLst/>
          </a:prstGeom>
          <a:ln w="76320">
            <a:solidFill>
              <a:srgbClr val="0099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581280" y="42670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4120" y="396252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438280" y="3962520"/>
            <a:ext cx="2895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16360" y="6026040"/>
            <a:ext cx="1816200" cy="7495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ív t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200040" y="6477120"/>
            <a:ext cx="60948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56840" y="4648320"/>
            <a:ext cx="1066680" cy="0"/>
          </a:xfrm>
          <a:prstGeom prst="line">
            <a:avLst/>
          </a:prstGeom>
          <a:ln w="76320">
            <a:solidFill>
              <a:srgbClr val="0099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56840" y="6477120"/>
            <a:ext cx="106668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7619760" y="6248520"/>
            <a:ext cx="106668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066680" y="1981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57150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958680" y="2025360"/>
            <a:ext cx="1930320" cy="559080"/>
          </a:xfrm>
          <a:prstGeom prst="hexagon">
            <a:avLst>
              <a:gd name="adj" fmla="val 33807"/>
              <a:gd name="vf" fmla="val 115470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ímkép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7709760" y="5242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37339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85C-03B6-4E1D-96B1-CD36923420B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asítás végrehajtás lépései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sítani az aritmetikai logikai egységet a művelet elvégzésé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edmény tárolása egy adatregiszter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2FC-BEEF-4372-9BF9-DE23B9CF4E5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asítás végrehajtás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-151920" y="1461960"/>
            <a:ext cx="144684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ámlá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2634120" y="2464560"/>
            <a:ext cx="14086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5623920" y="2527200"/>
            <a:ext cx="1387440" cy="519120"/>
          </a:xfrm>
          <a:prstGeom prst="rect">
            <a:avLst/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ütemez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373880" y="2298600"/>
            <a:ext cx="1230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érl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1107360" y="4278960"/>
            <a:ext cx="1744200" cy="945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30720" y="5815080"/>
            <a:ext cx="16372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 puff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240240" y="5799240"/>
            <a:ext cx="14086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 cím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 rot="16200000">
            <a:off x="3987360" y="2196360"/>
            <a:ext cx="1816200" cy="939960"/>
          </a:xfrm>
          <a:custGeom>
            <a:avLst/>
            <a:gdLst>
              <a:gd name="textAreaLeft" fmla="*/ 271080 w 1816200"/>
              <a:gd name="textAreaRight" fmla="*/ 1545120 w 1816200"/>
              <a:gd name="textAreaTop" fmla="*/ 140040 h 939960"/>
              <a:gd name="textAreaBottom" fmla="*/ 7999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45" y="21600"/>
                </a:lnTo>
                <a:lnTo>
                  <a:pt x="2655" y="21600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ekodo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 flipV="1" rot="10800000">
            <a:off x="2597040" y="4654440"/>
            <a:ext cx="4254480" cy="596880"/>
          </a:xfrm>
          <a:custGeom>
            <a:avLst/>
            <a:gdLst>
              <a:gd name="textAreaLeft" fmla="*/ 505080 w 4254480"/>
              <a:gd name="textAreaRight" fmla="*/ 3749400 w 4254480"/>
              <a:gd name="textAreaTop" fmla="*/ 70920 h 596880"/>
              <a:gd name="textAreaBottom" fmla="*/ 52596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33" y="21600"/>
                </a:lnTo>
                <a:lnTo>
                  <a:pt x="1467" y="21600"/>
                </a:lnTo>
                <a:close/>
              </a:path>
            </a:pathLst>
          </a:cu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metikai logikai eg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6200000">
            <a:off x="6026040" y="3740040"/>
            <a:ext cx="5702400" cy="368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íms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6200000">
            <a:off x="-1708200" y="4616280"/>
            <a:ext cx="3949920" cy="368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ts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809880" y="27432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14800" y="4724280"/>
            <a:ext cx="0" cy="2286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629400" y="27432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5257800"/>
            <a:ext cx="0" cy="22860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2437920" y="5486400"/>
            <a:ext cx="213372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638680" y="6477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629400" y="23623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29400" y="31240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" y="3505320"/>
            <a:ext cx="2438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2209680" y="27432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5410080" y="27432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456840" y="2971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209680" y="160020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81280" y="4267080"/>
            <a:ext cx="0" cy="38124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34120" y="3962520"/>
            <a:ext cx="0" cy="685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2438280" y="3962520"/>
            <a:ext cx="289584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16360" y="6026040"/>
            <a:ext cx="1816200" cy="7495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ív t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3200040" y="6477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56840" y="46483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56840" y="6477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619760" y="62485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1066680" y="1981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57150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958680" y="2025360"/>
            <a:ext cx="1930320" cy="559080"/>
          </a:xfrm>
          <a:prstGeom prst="hexagon">
            <a:avLst>
              <a:gd name="adj" fmla="val 33807"/>
              <a:gd name="vf" fmla="val 115470"/>
            </a:avLst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ímkép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7709760" y="5242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37339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D55-E287-41F0-BD02-4A396254AB3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asítás végrehajtás lépései 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határozni (címképzés) a tár címregiszterébe tölteni az eredmény címé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eredmény az adatregiszterből a tá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164-E16F-4AF6-8AD6-C88FD0125C2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mann elvű számítógép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áris (digitál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ni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ső programvezér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ória tárolja a programot és az adato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os feldolg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9488-0DED-4D5C-9019-2C52EA4E06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asítás végrehajtás 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6200000">
            <a:off x="-151920" y="1461960"/>
            <a:ext cx="144684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ámlá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16200000">
            <a:off x="2634120" y="2464560"/>
            <a:ext cx="14086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5623920" y="2527200"/>
            <a:ext cx="1387440" cy="519120"/>
          </a:xfrm>
          <a:prstGeom prst="rect">
            <a:avLst/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ütemez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373880" y="2298600"/>
            <a:ext cx="1230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érl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1107360" y="4278960"/>
            <a:ext cx="1744200" cy="945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30720" y="5815080"/>
            <a:ext cx="1637280" cy="945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 puff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240240" y="5799240"/>
            <a:ext cx="1408680" cy="945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 cím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 rot="16200000">
            <a:off x="3987360" y="2196360"/>
            <a:ext cx="1816200" cy="939960"/>
          </a:xfrm>
          <a:custGeom>
            <a:avLst/>
            <a:gdLst>
              <a:gd name="textAreaLeft" fmla="*/ 271080 w 1816200"/>
              <a:gd name="textAreaRight" fmla="*/ 1545120 w 1816200"/>
              <a:gd name="textAreaTop" fmla="*/ 140040 h 939960"/>
              <a:gd name="textAreaBottom" fmla="*/ 7999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45" y="21600"/>
                </a:lnTo>
                <a:lnTo>
                  <a:pt x="2655" y="21600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ekodo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 flipV="1" rot="10800000">
            <a:off x="2597040" y="4654440"/>
            <a:ext cx="4254480" cy="596880"/>
          </a:xfrm>
          <a:custGeom>
            <a:avLst/>
            <a:gdLst>
              <a:gd name="textAreaLeft" fmla="*/ 505080 w 4254480"/>
              <a:gd name="textAreaRight" fmla="*/ 3749400 w 4254480"/>
              <a:gd name="textAreaTop" fmla="*/ 70920 h 596880"/>
              <a:gd name="textAreaBottom" fmla="*/ 52596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33" y="21600"/>
                </a:lnTo>
                <a:lnTo>
                  <a:pt x="1467" y="21600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metikai logikai eg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6026040" y="3740040"/>
            <a:ext cx="5702400" cy="3682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íms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-1708200" y="4616280"/>
            <a:ext cx="3949920" cy="3682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ts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809880" y="27432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29400" y="27432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0" y="52578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2437920" y="548640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5638680" y="6477120"/>
            <a:ext cx="60984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29400" y="23623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29400" y="31240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3505320"/>
            <a:ext cx="2438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209680" y="2743200"/>
            <a:ext cx="60984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410080" y="27432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56840" y="2971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209680" y="1600200"/>
            <a:ext cx="6477120" cy="0"/>
          </a:xfrm>
          <a:prstGeom prst="line">
            <a:avLst/>
          </a:prstGeom>
          <a:ln w="76320">
            <a:solidFill>
              <a:srgbClr val="0099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581280" y="42670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34120" y="396252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438280" y="3962520"/>
            <a:ext cx="2895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816360" y="6026040"/>
            <a:ext cx="1816200" cy="7495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ív t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040" y="6477120"/>
            <a:ext cx="609480" cy="0"/>
          </a:xfrm>
          <a:prstGeom prst="line">
            <a:avLst/>
          </a:prstGeom>
          <a:ln w="76320">
            <a:solidFill>
              <a:srgbClr val="0099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56840" y="4648320"/>
            <a:ext cx="106668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56840" y="6477120"/>
            <a:ext cx="1066680" cy="0"/>
          </a:xfrm>
          <a:prstGeom prst="line">
            <a:avLst/>
          </a:prstGeom>
          <a:ln w="76320">
            <a:solidFill>
              <a:srgbClr val="0099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7619760" y="6248520"/>
            <a:ext cx="106668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1066680" y="1981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57150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16200000">
            <a:off x="958680" y="2025360"/>
            <a:ext cx="1930320" cy="559080"/>
          </a:xfrm>
          <a:prstGeom prst="hexagon">
            <a:avLst>
              <a:gd name="adj" fmla="val 33807"/>
              <a:gd name="vf" fmla="val 115470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ímkép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16200000">
            <a:off x="7709760" y="5242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37339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989-473F-4544-A639-30B720D4AF4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asítás végrehajtás lépései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határozni a következő utasítás címét és a tár címregiszterébe tölt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utasítást a tárból az utasításregiszterbe tölt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5C5-79FD-4849-990B-B2A1B86BDEA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asítás végrehajtás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16200000">
            <a:off x="-151920" y="1461960"/>
            <a:ext cx="1446840" cy="945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ámlá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2634120" y="2464560"/>
            <a:ext cx="1408680" cy="945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5623920" y="2527200"/>
            <a:ext cx="1387440" cy="519120"/>
          </a:xfrm>
          <a:prstGeom prst="rect">
            <a:avLst/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ütemez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373880" y="2298600"/>
            <a:ext cx="1230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érl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1107360" y="4278960"/>
            <a:ext cx="174420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530720" y="5815080"/>
            <a:ext cx="1637280" cy="945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 puff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240240" y="5799240"/>
            <a:ext cx="1408680" cy="945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ár cím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 rot="16200000">
            <a:off x="3987360" y="2196360"/>
            <a:ext cx="1816200" cy="939960"/>
          </a:xfrm>
          <a:custGeom>
            <a:avLst/>
            <a:gdLst>
              <a:gd name="textAreaLeft" fmla="*/ 271080 w 1816200"/>
              <a:gd name="textAreaRight" fmla="*/ 1545120 w 1816200"/>
              <a:gd name="textAreaTop" fmla="*/ 140040 h 939960"/>
              <a:gd name="textAreaBottom" fmla="*/ 7999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45" y="21600"/>
                </a:lnTo>
                <a:lnTo>
                  <a:pt x="2655" y="21600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ekodo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 flipV="1" rot="10800000">
            <a:off x="2597040" y="4654440"/>
            <a:ext cx="4254480" cy="596880"/>
          </a:xfrm>
          <a:custGeom>
            <a:avLst/>
            <a:gdLst>
              <a:gd name="textAreaLeft" fmla="*/ 505080 w 4254480"/>
              <a:gd name="textAreaRight" fmla="*/ 3749400 w 4254480"/>
              <a:gd name="textAreaTop" fmla="*/ 70920 h 596880"/>
              <a:gd name="textAreaBottom" fmla="*/ 52596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33" y="21600"/>
                </a:lnTo>
                <a:lnTo>
                  <a:pt x="1467" y="21600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metikai logikai eg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6200000">
            <a:off x="6026040" y="3740040"/>
            <a:ext cx="5702400" cy="3682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íms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-1708200" y="4616280"/>
            <a:ext cx="3949920" cy="3682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ts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809880" y="27432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1480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629400" y="27432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0" y="52578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2437920" y="548640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5638680" y="6477120"/>
            <a:ext cx="60984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3623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629400" y="31240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" y="3505320"/>
            <a:ext cx="243828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2209680" y="2743200"/>
            <a:ext cx="60984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5410080" y="27432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56840" y="2971800"/>
            <a:ext cx="1143000" cy="0"/>
          </a:xfrm>
          <a:prstGeom prst="line">
            <a:avLst/>
          </a:prstGeom>
          <a:ln w="76320">
            <a:solidFill>
              <a:srgbClr val="0099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09680" y="1600200"/>
            <a:ext cx="6477120" cy="0"/>
          </a:xfrm>
          <a:prstGeom prst="line">
            <a:avLst/>
          </a:prstGeom>
          <a:ln w="76320">
            <a:solidFill>
              <a:srgbClr val="0099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42670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34120" y="396252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438280" y="3962520"/>
            <a:ext cx="2895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16360" y="6026040"/>
            <a:ext cx="1816200" cy="7495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ív t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200040" y="6477120"/>
            <a:ext cx="60948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56840" y="46483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456840" y="6477120"/>
            <a:ext cx="106668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7619760" y="6248520"/>
            <a:ext cx="106668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066680" y="1981080"/>
            <a:ext cx="609840" cy="0"/>
          </a:xfrm>
          <a:prstGeom prst="line">
            <a:avLst/>
          </a:prstGeom>
          <a:ln w="76320">
            <a:solidFill>
              <a:srgbClr val="0099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57150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6200000">
            <a:off x="958680" y="2025360"/>
            <a:ext cx="1930320" cy="559080"/>
          </a:xfrm>
          <a:prstGeom prst="hexagon">
            <a:avLst>
              <a:gd name="adj" fmla="val 33807"/>
              <a:gd name="vf" fmla="val 115470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ímkép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6200000">
            <a:off x="7709760" y="5242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37339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105-B8B1-45A3-AFD2-433E57FBA77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PU-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2000160" cy="14666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5651640" y="4797360"/>
            <a:ext cx="1536480" cy="15303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3780000" y="4797360"/>
            <a:ext cx="1557000" cy="14954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84720" y="3284640"/>
            <a:ext cx="4321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hlon és Athlon XP-k: Thunderbird, Palomino és Thoroughbre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7380360" y="4797360"/>
            <a:ext cx="1523880" cy="1530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1042920" y="4005360"/>
            <a:ext cx="13636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apla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2435400" cy="18352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5580000" y="2421000"/>
            <a:ext cx="23781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ázak, Hütő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206360" y="2798640"/>
            <a:ext cx="2540160" cy="21272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5952960" y="1878120"/>
            <a:ext cx="1428840" cy="16286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5952960" y="4361040"/>
            <a:ext cx="142884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lentyűzet, egé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601800" cy="21859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5867280" y="1341360"/>
            <a:ext cx="208116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onitorok</a:t>
            </a:r>
            <a:br>
              <a:rPr sz="4000"/>
            </a:b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RT vs. T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RT monitor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tód sugárcsöve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últ : Monocrom,Herkules, CGA, EGA, VGA :14 colos mé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elen : VGA,SVGA : 15,17,19,21 colos mé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FT kijelző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övő , folyadék kristályos un. LCD megjelenítő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sebb hely igény, alacsony fogyasz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5, 17, 19 colos kijelzők kapható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ok, videokárt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651400" cy="20142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4932360" y="1978200"/>
            <a:ext cx="2449440" cy="24494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2987640" y="4581360"/>
            <a:ext cx="252108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mann elvű számítógép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(központi egység) része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vezérlõ egység (control unit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ritmetikai és logikai egység (ALU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ár (memory) 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i/bemeneti egység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zek teljesen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ktronikusa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legyenek és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nári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számrendszert használjanak. Az ALU képes legyen elvégezni az alapvetõ logikai és aritmetikai mûveleteket (néhány elemi matematikai és logikai mûvelet segítségével elvileg bármely számítási feladat elvégezhet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árolt program elvû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a program és az adatok ugyanabban a belsõ tárban tárolódnak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ezérlõ egység határozza meg a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ûködést a tárból kiolvasott utasítások alapjá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emberi beavatkozás nélkü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681-292A-4FC3-A4F0-F29AF6D91A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yszerű gép vázl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6560" y="2597040"/>
            <a:ext cx="1434960" cy="4108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19400" y="22096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6560" y="3206880"/>
            <a:ext cx="1434960" cy="4442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59840" y="3138480"/>
            <a:ext cx="132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p x 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38520" y="2376360"/>
            <a:ext cx="2649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gram+ad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3080" y="3292560"/>
            <a:ext cx="1510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űvele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1760" y="4191120"/>
            <a:ext cx="269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űvelet válasz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5257800"/>
            <a:ext cx="1434960" cy="29196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5943600"/>
            <a:ext cx="1434960" cy="29196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883560" y="4273560"/>
            <a:ext cx="1511280" cy="673200"/>
          </a:xfrm>
          <a:custGeom>
            <a:avLst/>
            <a:gdLst>
              <a:gd name="textAreaLeft" fmla="*/ 332280 w 1511280"/>
              <a:gd name="textAreaRight" fmla="*/ 1179000 w 1511280"/>
              <a:gd name="textAreaTop" fmla="*/ 147960 h 673200"/>
              <a:gd name="textAreaBottom" fmla="*/ 525240 h 6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5486400"/>
            <a:ext cx="46674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6172200"/>
            <a:ext cx="52005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8680" y="3657600"/>
            <a:ext cx="0" cy="1066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182000" y="495288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128320" y="4724280"/>
            <a:ext cx="48769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920" y="3657600"/>
            <a:ext cx="0" cy="182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14480" y="36576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615080" y="1828440"/>
            <a:ext cx="0" cy="243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356920" y="1828800"/>
            <a:ext cx="5257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8020080" y="495252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 rot="16200000">
            <a:off x="1753200" y="1834920"/>
            <a:ext cx="749520" cy="444600"/>
          </a:xfrm>
          <a:custGeom>
            <a:avLst/>
            <a:gdLst>
              <a:gd name="textAreaLeft" fmla="*/ 164880 w 749520"/>
              <a:gd name="textAreaRight" fmla="*/ 584640 w 749520"/>
              <a:gd name="textAreaTop" fmla="*/ 97560 h 444600"/>
              <a:gd name="textAreaBottom" fmla="*/ 347040 h 4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57280" y="220968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442880" y="205740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42880" y="2057400"/>
            <a:ext cx="0" cy="1752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2880" y="380988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386000"/>
            <a:ext cx="16466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övetkez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520" y="4495680"/>
            <a:ext cx="11314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7240" y="4800600"/>
            <a:ext cx="190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adat c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520" y="5486400"/>
            <a:ext cx="113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520" y="6172200"/>
            <a:ext cx="113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a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352680" y="3276720"/>
            <a:ext cx="60984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66200" y="1309680"/>
            <a:ext cx="15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edm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819520" y="4876560"/>
            <a:ext cx="9144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371600" y="4876560"/>
            <a:ext cx="114300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613-A8B8-461F-9EB3-6F0C2858ED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tárolós egyszerű logikai gép vázlat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„feltételes elágazá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6560" y="2597040"/>
            <a:ext cx="1434960" cy="1739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119400" y="2211480"/>
            <a:ext cx="0" cy="1063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6560" y="3206880"/>
            <a:ext cx="1434960" cy="4442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59840" y="3138480"/>
            <a:ext cx="132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p x 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640" y="2376360"/>
            <a:ext cx="1510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ro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1280" y="2451240"/>
            <a:ext cx="1076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ro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33080" y="3292560"/>
            <a:ext cx="1510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űvele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1480" y="4281480"/>
            <a:ext cx="1466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űve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álasz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07040" y="5111640"/>
            <a:ext cx="901800" cy="1663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07040" y="5340240"/>
            <a:ext cx="901800" cy="2923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07040" y="6026040"/>
            <a:ext cx="901800" cy="2923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883560" y="4273560"/>
            <a:ext cx="1511280" cy="673200"/>
          </a:xfrm>
          <a:custGeom>
            <a:avLst/>
            <a:gdLst>
              <a:gd name="textAreaLeft" fmla="*/ 331920 w 1511280"/>
              <a:gd name="textAreaRight" fmla="*/ 1179360 w 1511280"/>
              <a:gd name="textAreaTop" fmla="*/ 147960 h 673200"/>
              <a:gd name="textAreaBottom" fmla="*/ 525240 h 6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37320" y="5486400"/>
            <a:ext cx="14446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13280" y="6172200"/>
            <a:ext cx="22068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8680" y="3660840"/>
            <a:ext cx="0" cy="1063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182000" y="4954320"/>
            <a:ext cx="0" cy="530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1920" y="4724280"/>
            <a:ext cx="48736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920" y="3660840"/>
            <a:ext cx="0" cy="1825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4480" y="3660840"/>
            <a:ext cx="0" cy="2511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3160" y="5486400"/>
            <a:ext cx="2663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7720" y="6172200"/>
            <a:ext cx="2359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615080" y="1829880"/>
            <a:ext cx="0" cy="2435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360520" y="1828800"/>
            <a:ext cx="5254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81720" y="1832040"/>
            <a:ext cx="0" cy="3654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020080" y="4954680"/>
            <a:ext cx="0" cy="1216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 rot="16200000">
            <a:off x="1753200" y="1834920"/>
            <a:ext cx="749520" cy="444600"/>
          </a:xfrm>
          <a:custGeom>
            <a:avLst/>
            <a:gdLst>
              <a:gd name="textAreaLeft" fmla="*/ 164520 w 749520"/>
              <a:gd name="textAreaRight" fmla="*/ 585000 w 749520"/>
              <a:gd name="textAreaTop" fmla="*/ 97560 h 444600"/>
              <a:gd name="textAreaBottom" fmla="*/ 347040 h 4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2209680"/>
            <a:ext cx="7588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445760" y="2057400"/>
            <a:ext cx="4539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2060640"/>
            <a:ext cx="0" cy="1749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6120" y="3809880"/>
            <a:ext cx="4539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386000"/>
            <a:ext cx="16466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övetkez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57040" y="5500800"/>
            <a:ext cx="190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dat c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57040" y="6186600"/>
            <a:ext cx="190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adat c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32680" y="5500800"/>
            <a:ext cx="113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08640" y="6186600"/>
            <a:ext cx="113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a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355560" y="3279600"/>
            <a:ext cx="606600" cy="60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870160" y="3355920"/>
            <a:ext cx="530280" cy="174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66200" y="1309680"/>
            <a:ext cx="15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edm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291-4438-47DC-9A49-620EE3699C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Generáció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45-1956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941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Konrad Zuse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Z3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elekromágneses relék, repülő és rakéta terve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943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Alain Turing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Colossu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émet rejtjel visszafejtés (célgé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944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Howard H. Aiken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ark I.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lövedékpálya táblázatok,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él focipálya méret, 800km vezeték, relé,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-5 sec/számolás,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lapműveletek, komplex egyenl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6D4-2877-4204-B883-DE2BDBA8EB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Generáció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45-1956 (2) (ENI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946,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NIAC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John Presper Eckert, John W. Mauchl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ső </a:t>
            </a:r>
            <a:r>
              <a:rPr b="0" lang="hu-HU" sz="2800" spc="-1" strike="noStrike">
                <a:solidFill>
                  <a:srgbClr val="009999"/>
                </a:solidFill>
                <a:latin typeface="Arial"/>
              </a:rPr>
              <a:t>elektroniku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9999"/>
                </a:solidFill>
                <a:latin typeface="Arial"/>
              </a:rPr>
              <a:t>digitáli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ámítógép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8.000 vákuumcső, 70.000 ellenállás, 5 millió forrasztás, 160 kW fogyasztás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5000 + /sec , 400 * /sec, 10 jegyű számok,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0 regiszter, 1000* gyorsabb mint Mark I.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ülső programvezérlés (huzalozás)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30 Tonna , MTBF 40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35600" y="5765760"/>
            <a:ext cx="51184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 CE"/>
              </a:rPr>
              <a:t>MTBF</a:t>
            </a:r>
            <a:r>
              <a:rPr b="0" lang="hu-HU" sz="2400" spc="-1" strike="noStrike">
                <a:solidFill>
                  <a:srgbClr val="000000"/>
                </a:solidFill>
                <a:latin typeface="Times New Roman CE"/>
              </a:rPr>
              <a:t> = </a:t>
            </a:r>
            <a:r>
              <a:rPr b="0" lang="hu-HU" sz="2400" spc="-1" strike="noStrike">
                <a:solidFill>
                  <a:srgbClr val="000000"/>
                </a:solidFill>
                <a:latin typeface="Times New Roman CE"/>
              </a:rPr>
              <a:t>M</a:t>
            </a:r>
            <a:r>
              <a:rPr b="0" lang="hu-HU" sz="2400" spc="-1" strike="noStrike">
                <a:solidFill>
                  <a:srgbClr val="000000"/>
                </a:solidFill>
                <a:latin typeface="Times New Roman CE"/>
              </a:rPr>
              <a:t>ean </a:t>
            </a:r>
            <a:r>
              <a:rPr b="0" lang="hu-HU" sz="2400" spc="-1" strike="noStrike">
                <a:solidFill>
                  <a:srgbClr val="000000"/>
                </a:solidFill>
                <a:latin typeface="Times New Roman CE"/>
              </a:rPr>
              <a:t>T</a:t>
            </a:r>
            <a:r>
              <a:rPr b="0" lang="hu-HU" sz="2400" spc="-1" strike="noStrike">
                <a:solidFill>
                  <a:srgbClr val="000000"/>
                </a:solidFill>
                <a:latin typeface="Times New Roman CE"/>
              </a:rPr>
              <a:t>ime </a:t>
            </a:r>
            <a:r>
              <a:rPr b="0" lang="hu-HU" sz="2400" spc="-1" strike="noStrike">
                <a:solidFill>
                  <a:srgbClr val="000000"/>
                </a:solidFill>
                <a:latin typeface="Times New Roman CE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Times New Roman CE"/>
              </a:rPr>
              <a:t>etween </a:t>
            </a:r>
            <a:r>
              <a:rPr b="0" lang="hu-HU" sz="2400" spc="-1" strike="noStrike">
                <a:solidFill>
                  <a:srgbClr val="000000"/>
                </a:solidFill>
                <a:latin typeface="Times New Roman CE"/>
              </a:rPr>
              <a:t>F</a:t>
            </a:r>
            <a:r>
              <a:rPr b="0" lang="hu-HU" sz="2400" spc="-1" strike="noStrike">
                <a:solidFill>
                  <a:srgbClr val="000000"/>
                </a:solidFill>
                <a:latin typeface="Times New Roman CE"/>
              </a:rPr>
              <a:t>ailures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 CE"/>
              </a:rPr>
              <a:t>(meghibásodások közt eltelt átlagos idő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31B4-3869-4EE3-99A8-5F6EE3A7C3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8:54:11Z</dcterms:created>
  <dc:creator>Nagymáté Péter</dc:creator>
  <dc:description/>
  <dc:language>en-US</dc:language>
  <cp:lastModifiedBy>Nagymáté Péter</cp:lastModifiedBy>
  <dcterms:modified xsi:type="dcterms:W3CDTF">2003-09-18T10:55:22Z</dcterms:modified>
  <cp:revision>7</cp:revision>
  <dc:subject/>
  <dc:title>Számítástechnikai alapismeretek</dc:title>
</cp:coreProperties>
</file>